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BD65-0B9F-4518-87FB-650F7405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25AA-82C0-47B9-8CD6-53967A9D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C5B4-4082-4F7E-9BAA-55E99242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29C7-9518-4EDD-8769-06C5C367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510C-6811-4924-B8CF-A425B82E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B024-FCA9-4814-AFFA-4720BB62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D3F-697B-4D9B-A20C-5F8DF370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974B-14A4-4E30-ABB0-E4963336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EFF-77CA-463C-BBD6-4F753645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2289-03FF-4ED3-9DA6-2211F653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51AB-8E2B-40AB-AD75-A1133758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D9F-CCA1-45DB-8257-D44E8E90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DE91-CF33-433B-964B-8F75531C597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76280" y="765000"/>
            <a:ext cx="81914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380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رع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الرع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ذكر الرعد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4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محم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مال قدرة الله تعال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14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ية الوح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البع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استدلال بتوحيد الربوبية على توحيد الألوه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5"/>
          <p:cNvCxnSpPr/>
          <p:nvPr/>
        </p:nvCxnSpPr>
        <p:spPr>
          <a:xfrm flipH="1">
            <a:off x="8458920" y="380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4160" y="35733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صفات السعداء والأشقيا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2T10:16:42Z</dcterms:modified>
  <cp:revision>1807</cp:revision>
  <dc:subject/>
  <dc:title>عرض تقديمي في PowerPoint</dc:title>
</cp:coreProperties>
</file>